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78943"/>
        <c:axId val="86430756"/>
      </c:barChart>
      <c:catAx>
        <c:axId val="57078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30756"/>
        <c:crosses val="autoZero"/>
        <c:auto val="1"/>
        <c:lblAlgn val="ctr"/>
        <c:lblOffset val="100"/>
        <c:noMultiLvlLbl val="0"/>
      </c:catAx>
      <c:valAx>
        <c:axId val="86430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78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C68-9E14-4896-814D-42F3F164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F52-DD50-4DEB-962F-9175B310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F1F-33EE-47F3-83B2-B7632FFE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16D-CAF4-4270-AC12-E875733B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566-8353-4760-897D-E9F530B3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2E7-7B81-4DA9-8F78-0555301B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FBB-8D6C-462C-B817-65F9A47B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BF9-8A27-450B-8B1B-3463A1B7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CC0-0EF3-4F4B-B49F-93E8FB0F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4D9-9943-4A70-BAE6-9DA74550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55A-DB94-4615-9706-0C8F955E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01E-31ED-4458-943F-043F1B7A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9B90A-C2DB-4B9B-811F-F0FAE90982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