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13030"/>
        <c:axId val="33621812"/>
      </c:barChart>
      <c:catAx>
        <c:axId val="63513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21812"/>
        <c:crosses val="autoZero"/>
        <c:auto val="1"/>
        <c:lblAlgn val="ctr"/>
        <c:lblOffset val="100"/>
        <c:noMultiLvlLbl val="0"/>
      </c:catAx>
      <c:valAx>
        <c:axId val="33621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13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295-9F8B-4D20-ABAD-FD8B519E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B51-AB3D-48FB-8C98-AC3CF20C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66C-B310-4279-9885-F2A28155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891-2C0B-436C-B2A1-40916814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C00-3A46-45F0-838D-FB29DDAD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FD7-EB0A-454F-B427-AD60490A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19C-9ABF-4C2C-93C6-3F9E1D52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613-D6AB-49B2-9C76-3F5B802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063-AEDE-4967-BA64-298B6224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820-3FE3-400C-8396-DA32350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05F-DA04-4EFF-B0F1-995928D5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B23-1324-4C09-BB0F-D5C34B3D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B8403-09FB-4EDC-AF13-BEDF6DD113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