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13264"/>
        <c:axId val="9475741"/>
      </c:barChart>
      <c:catAx>
        <c:axId val="19813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5741"/>
        <c:crosses val="autoZero"/>
        <c:auto val="1"/>
        <c:lblAlgn val="ctr"/>
        <c:lblOffset val="100"/>
        <c:noMultiLvlLbl val="0"/>
      </c:catAx>
      <c:valAx>
        <c:axId val="9475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13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D3D-4C2E-4221-A531-6D6934C7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0CD-9C08-474F-88F6-74A9ACBA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A13-1B42-4023-AE6E-A18AE800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5B1-FC8C-4906-AE3D-C9E313B2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4FF-8FEF-47F6-9E4E-F16A3469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A8F-D08E-4C13-8CB9-AA30933C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BBB-107E-48AC-A670-79DD425A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42B-A755-4ABD-9738-31F1DA06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B44-7D4B-4259-8490-6E30C536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3E3-855C-4A99-BB7F-3B406425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33B-1A9A-4E9D-94A5-3F7A5AA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EC3-5F1B-4C13-B39A-940A609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70A23-C712-420D-9410-59C3C72E6C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