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33016"/>
        <c:axId val="20550228"/>
      </c:barChart>
      <c:catAx>
        <c:axId val="4723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0228"/>
        <c:crosses val="autoZero"/>
        <c:auto val="1"/>
        <c:lblAlgn val="ctr"/>
        <c:lblOffset val="100"/>
        <c:noMultiLvlLbl val="0"/>
      </c:catAx>
      <c:valAx>
        <c:axId val="20550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372-05FC-455F-86CC-E4953A8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0D5-70B2-4715-95A7-AD31AF7D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524-F4B5-4961-BE2B-7FD63AA3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B06-F787-4221-9EC9-E8CA7C6C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900-E1A1-49C8-9788-C908FE2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565-401F-4521-83EE-221D637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E7C-70D5-4F65-B213-AEFC24A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A5C-358F-49E3-AE61-0F99629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B49-7D9F-4C8E-A8E9-5244556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DE8-7842-4F99-8EDF-D671A8D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801-783D-4380-B7A5-45243EF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23D-0731-4570-9311-1357217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01FEA-0EEC-4276-A5FB-C17FC66F39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