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91148"/>
        <c:axId val="27141261"/>
      </c:barChart>
      <c:catAx>
        <c:axId val="11191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41261"/>
        <c:crosses val="autoZero"/>
        <c:auto val="1"/>
        <c:lblAlgn val="ctr"/>
        <c:lblOffset val="100"/>
        <c:noMultiLvlLbl val="0"/>
      </c:catAx>
      <c:valAx>
        <c:axId val="27141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1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1E7-B7CA-40A8-A912-33C8AE78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080-6A33-48BD-B8A5-FFF705CC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0E2-83EF-40D5-8A58-6F7060CF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E34-9DE8-4497-B65A-0F3B48E2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0F2-DB4A-4ACA-8080-42E1C723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123-60A3-4394-81B6-7F10E83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E3E-D5BF-4133-BA88-1CE84040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D42-4F4A-4C0F-8CE4-4033BB4E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323-CC43-40DE-B6EE-6166F669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BC6-5651-4EA1-8A3E-159BDDFF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575-8134-4507-8936-64CDEB42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AB7-C526-44F1-904F-AA707C90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FC726-5984-43AC-A4C8-A1CD197C15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