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00809"/>
        <c:axId val="60356257"/>
      </c:barChart>
      <c:catAx>
        <c:axId val="19600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56257"/>
        <c:crosses val="autoZero"/>
        <c:auto val="1"/>
        <c:lblAlgn val="ctr"/>
        <c:lblOffset val="100"/>
        <c:noMultiLvlLbl val="0"/>
      </c:catAx>
      <c:valAx>
        <c:axId val="60356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00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BF8-8C00-42D7-9908-723F05AB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63D-BF37-47E0-820C-47E710FF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04D-567F-4F95-AD53-BB7B592D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CA9-C654-4685-ABE0-35B21616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65E-EECF-481F-BFDB-D58ABFD2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361-65DD-4E2E-B38D-F2AF7F0F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B3D-801E-499F-9D8F-4B9A89DD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2DD-7FB8-4F24-85EA-208B114F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4B6-D9F8-4CCA-9355-00F409E0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A4D-C07F-4F4C-9AAE-EA27C49E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4FF-EF4D-488F-8DDB-EF7F0024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209-9321-4256-BF45-DA76D8DA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0B18E-CB73-4F84-A9DD-2FDC45F598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