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40141"/>
        <c:axId val="16102699"/>
      </c:barChart>
      <c:catAx>
        <c:axId val="34640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2699"/>
        <c:crosses val="autoZero"/>
        <c:auto val="1"/>
        <c:lblAlgn val="ctr"/>
        <c:lblOffset val="100"/>
        <c:noMultiLvlLbl val="0"/>
      </c:catAx>
      <c:valAx>
        <c:axId val="1610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0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3AD-8B05-41D1-AAF0-2B0E9893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878-8BF9-4E0D-A2F1-5565A192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B31-DF64-4673-AD6D-7CEC7B14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316-BE0B-4763-8ABF-58F242B5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967-2B24-4709-AD5A-49F0EAB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DF1-4FE4-4628-9DFA-914BDCD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B25-4215-40C4-B129-477AD852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A0D-B21B-4546-A796-C2FFB65B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88F-5FCC-4006-813C-E1B94E92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30E-E344-40FF-8C36-EE5E91B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0BD-C11D-4A4D-A4ED-45E822C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41C-61C0-46E8-B052-F65F3B4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1B05-66D5-43B7-A22F-315C55673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