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75169"/>
        <c:axId val="5513567"/>
      </c:barChart>
      <c:catAx>
        <c:axId val="60475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567"/>
        <c:crosses val="autoZero"/>
        <c:auto val="1"/>
        <c:lblAlgn val="ctr"/>
        <c:lblOffset val="100"/>
        <c:noMultiLvlLbl val="0"/>
      </c:catAx>
      <c:valAx>
        <c:axId val="5513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5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CA2-AFDC-419C-92AB-1E02F279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036-FD77-45E3-B813-6B14F8B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BB5-59EE-47C9-A9B7-EFDBC4B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344-FC3D-4AFA-8D0D-58A1377F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FB0-4006-40C4-851F-9B751FE4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752-F514-4081-9732-71EE6B95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D0-19FD-4DAF-AF6B-A24AEF0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122-E917-4156-97E9-60723F1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C18-E8AF-411A-8FB9-5D5075A0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69F-5D14-42D6-AF2A-889CBC9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812-011F-4F7B-8E81-B8FB3C4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7DD-B9BA-46C8-8B37-30B1E77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D3587-F5DB-4C8F-834A-08E049138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