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77098"/>
        <c:axId val="24860716"/>
      </c:barChart>
      <c:catAx>
        <c:axId val="81677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60716"/>
        <c:crosses val="autoZero"/>
        <c:auto val="1"/>
        <c:lblAlgn val="ctr"/>
        <c:lblOffset val="100"/>
        <c:noMultiLvlLbl val="0"/>
      </c:catAx>
      <c:valAx>
        <c:axId val="24860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77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B7E-8C71-43FC-B842-04679FE5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14A-F25D-4EAE-AE31-2C54BA0B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812-2CBA-435E-B12C-08D95BB9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EC5-56E7-4388-8131-E9075D62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283-CE55-4644-9151-6D4123BD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554-177F-4C16-872F-51E0CDD1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112-B7B5-4283-8870-26D8171B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C9A-A4A2-49C8-83A4-1EBA2C75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1A7-F441-4246-84B3-A6D82642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0A8-0AFA-4682-92A0-83C15C56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1CC-7D31-48AA-BC15-55A01CB5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68B-FFFF-470E-9B30-9997D8B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4AB5B-6566-4EC4-AB52-7AD7F61718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